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A26-81D9-4178-B326-8A68011F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C92-278D-4AEB-A71F-2D5DD357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B7E-52AA-4391-80BD-FF1C18B4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795-4F30-4309-A5C6-AD358D5A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B9D6-8C80-45AA-B3A8-2DB4CEA8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0F32-9B6E-4DE4-94D8-5D237D8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E50E-0049-468E-890A-61353433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8EB-7626-42DE-B2AE-1EBA9315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DA2-FC02-428A-BBCE-0C23C94C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688F-20CE-43AD-A8FF-A22A630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3048-6D72-4A64-8420-B0F1C1E2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CA9-59F8-4694-BEE3-4260A48A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D5FE-D142-41FB-864F-785CC69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8075-7A78-4AF1-9CEC-6068610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3CD-CB66-4092-99DC-67F98A80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18B3-7957-4FCB-A330-828477CA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9B5C-1D2C-4433-8C76-57FDA826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2949-DD49-4925-95D5-26DE4C15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A785-DF70-4BB9-A32E-93B3B38E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01CB-CCBE-4BE6-AD1F-1E89FF12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4FD4-7370-4057-9A4C-D2A1AC75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C0A3-B0B7-4D0B-BC94-C4A6B1BA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D32-F4DF-40A3-AB23-4A162DA7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A6B4-A74A-4D1A-BA81-E9271921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45BE-04C0-4711-A62C-742A724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FE67-A590-4C20-88C9-8A87089F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1951-B792-41BE-80FC-C138DC2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FFFF-1A17-421A-9D9A-DFED2171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0023-37F9-4623-A440-900C0313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2DE5A-2DFF-4E79-801F-72C544DA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F065-620F-41E7-ACB4-79DF638B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44F5-BE8D-454F-8966-0FB65538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4896-357D-4622-9EF1-17DC26BF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627-A970-4906-84F7-A8860CE1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DB79-374A-47EC-A437-E3BB844F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3337-351C-4F33-AA64-B91E3DDC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1D78-9BA8-4407-A35B-1CB1FCA3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1C6F-71E5-41A5-9D03-07A6715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EF49-1FE7-47D0-B3E2-6A6082B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2D186-28F0-4A6F-A95E-93C780C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ED2F-B790-4C3A-AFCF-C10BB14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F786-E71A-4710-A0FF-DBDAD02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6FCE-3774-45AB-844B-1286E5BD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F5E-5A66-489E-ABC1-2D53A62B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945-73FA-424D-A385-8556C629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EE3-B396-4578-8F2E-DCAB6F3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465-9690-4D1B-8751-91799DF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F2E-E8E1-46C8-9DAF-1D82AFC0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613-384A-48B6-8100-1B68DCFAB0D2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E069-4BBE-477E-840F-9912A900B4B3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85A-F4A7-405D-A6B0-AF00179C186B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ED0C-F233-4BFD-9533-3A8198B32863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ASZK6Qgp3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17680" y="1268280"/>
            <a:ext cx="8016840" cy="2786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By: Lily Wang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Tirthankar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ppears in the world to teach th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ay to moksha, or liber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not an incarnation of the Go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reat omniscient teachers who lived at various times in man's cultural his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ccomplished the highest spiritual goal of existence Each new tirthankara preaches the same basic Jain philosop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24 tirthankaras during this present ag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vetambara Jains believe that tirthankaras can be men or women, but Digamber Jains believe that women can't be tirthanka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C:\Kairu's stuff\School\Grade 11\World History AP\tirthankara-statues-500.jpg"/>
          <p:cNvPicPr/>
          <p:nvPr/>
        </p:nvPicPr>
        <p:blipFill>
          <a:blip r:embed="rId1"/>
          <a:stretch/>
        </p:blipFill>
        <p:spPr>
          <a:xfrm>
            <a:off x="5508720" y="1052640"/>
            <a:ext cx="2759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Tirthankar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Parshva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four of the five Jain principles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Mahavir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Not the founder of Jainis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world's most recent tirthankara (and will be the last one in this age)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born as Vardhamana in north east India in 599 BC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a prince, the son of King Siddhartha and Queen Trishal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live the life of an ascetic, or a sadhana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extremely long, arduous periods of fasting and medita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attained Kevalnyan, enlightenmen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taught the path he had discovered to other seekers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Mahavira added the principle of chastit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established a community of 14,000 monks and 36,000 nuns before he di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Kairu's stuff\School\Grade 11\World History AP\ParshvaNath.jpg"/>
          <p:cNvPicPr/>
          <p:nvPr/>
        </p:nvPicPr>
        <p:blipFill>
          <a:blip r:embed="rId1"/>
          <a:stretch/>
        </p:blipFill>
        <p:spPr>
          <a:xfrm>
            <a:off x="4356000" y="836640"/>
            <a:ext cx="1737000" cy="22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Kairu's stuff\School\Grade 11\World History AP\mahavira.jpg"/>
          <p:cNvPicPr/>
          <p:nvPr/>
        </p:nvPicPr>
        <p:blipFill>
          <a:blip r:embed="rId2"/>
          <a:stretch/>
        </p:blipFill>
        <p:spPr>
          <a:xfrm>
            <a:off x="6659640" y="836640"/>
            <a:ext cx="18921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Political Influ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Mohandas Karamchand Gandh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 Jai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ome of his ideas on politics come fr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Jainism (from the 5 princip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ioneered satyagraha (truthfulness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efined as resistance to tyranny through mass civil disobedience, a philosophy firmly founded upon ahimsa or total nonviolenc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helped India to gain indepen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inspired movements for civil rights and freedom across the worl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Kairu's stuff\School\Grade 11\World History AP\gandhi.jpg"/>
          <p:cNvPicPr/>
          <p:nvPr/>
        </p:nvPicPr>
        <p:blipFill>
          <a:blip r:embed="rId1"/>
          <a:stretch/>
        </p:blipFill>
        <p:spPr>
          <a:xfrm>
            <a:off x="6372360" y="907920"/>
            <a:ext cx="21222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Economic Influ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 a limit to one’s own needs and whatever surplus one may accumulate beyond these needs should be donated to charitie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s in check the concentration of wealth and paves the way for its wide and more even distributio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wing gulf between the rich and the poor can be peacefully bridg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air distribution of wealth is essential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siness dealings must be conducted in the non-acquisitive spirit of aparigrah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gam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based on Mahavira teachin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rally compiled by his disciples into various Sutras (text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rally passed on from teachers (acaryas or gurus) to the disciples for several centuri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 scholars date the composition of Jain agamas at around 6th to 3rd century B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C:\Kairu's stuff\School\Grade 11\World History AP\350px-Jainmanuscript.jpg"/>
          <p:cNvPicPr/>
          <p:nvPr/>
        </p:nvPicPr>
        <p:blipFill>
          <a:blip r:embed="rId1"/>
          <a:stretch/>
        </p:blipFill>
        <p:spPr>
          <a:xfrm>
            <a:off x="3635280" y="907920"/>
            <a:ext cx="4444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Symbo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000" y="206028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symbol of the seventh Tirthankara. In the Svetambar Jain tradition, it is also one of the symbols of the ashra-mangalas (Eight Auspicious Sign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 wheel on the palm of a hand, symbolizing Ahimsa (non-violenc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riratna signify the three jewels of Jai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Kairu's stuff\School\Grade 11\World History AP\Jain_symbol.gif"/>
          <p:cNvPicPr/>
          <p:nvPr/>
        </p:nvPicPr>
        <p:blipFill>
          <a:blip r:embed="rId1"/>
          <a:stretch/>
        </p:blipFill>
        <p:spPr>
          <a:xfrm>
            <a:off x="6516720" y="836640"/>
            <a:ext cx="1141560" cy="1650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Kairu's stuff\School\Grade 11\World History AP\sym-jainism-210.gif"/>
          <p:cNvPicPr/>
          <p:nvPr/>
        </p:nvPicPr>
        <p:blipFill>
          <a:blip r:embed="rId2"/>
          <a:stretch/>
        </p:blipFill>
        <p:spPr>
          <a:xfrm>
            <a:off x="7308720" y="2637000"/>
            <a:ext cx="1243080" cy="20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Kairu's stuff\School\Grade 11\World History AP\triratna.jpg"/>
          <p:cNvPicPr/>
          <p:nvPr/>
        </p:nvPicPr>
        <p:blipFill>
          <a:blip r:embed="rId3"/>
          <a:stretch/>
        </p:blipFill>
        <p:spPr>
          <a:xfrm>
            <a:off x="6012000" y="486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o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religion of religious equality, devoted to recognisi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rights of all living creat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sectarian divi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Difambara Jain sect believes that women cannot achieve liberation without being reborn as men first. The Svetambara sect disagre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akedn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akedness is an essential element of the road to liberation.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Mahavira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imself, set an example of total nudity that Digambaras believe monks should follow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is ban on female nakedness is partly intended to protect both men and wome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cause men to experience sexual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feel ashamed of being nak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prevent the disruptive consequences of allowing women to walk around nak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C:\Kairu's stuff\School\Grade 11\World History AP\Jainism.jpg"/>
          <p:cNvPicPr/>
          <p:nvPr/>
        </p:nvPicPr>
        <p:blipFill>
          <a:blip r:embed="rId1"/>
          <a:stretch/>
        </p:blipFill>
        <p:spPr>
          <a:xfrm>
            <a:off x="6804000" y="836640"/>
            <a:ext cx="14130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o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himsa and wo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gambaras also believe that women are inherently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himsic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harmful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nstrual blood kills micro-organisms living in the female bod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emale body is less non-violent than a male bod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mpu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nstrual blood is a sign of impu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ttach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ature is to care for children and other depend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Sci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735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universe is uncreated, real, eternal, and infinite with no beginning and en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 matter is never destroyed; it only undergoes changes into different states or modes. This is the law of nat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aking meals before sunset 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defense of the vow of non-viole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fter sunset many tiny liv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beings come into existence in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tmospher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C:\Kairu's stuff\School\Grade 11\World History AP\CampsBaySunset.jpg"/>
          <p:cNvPicPr/>
          <p:nvPr/>
        </p:nvPicPr>
        <p:blipFill>
          <a:blip r:embed="rId1"/>
          <a:stretch/>
        </p:blipFill>
        <p:spPr>
          <a:xfrm>
            <a:off x="5796000" y="4005360"/>
            <a:ext cx="2689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BBC - Religion - Jainis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2 Oct. 2010. &lt;http://www.bbc.co.uk/religion/religions/jainism/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reuilly, Elizabeth, Joanne O'Brien, and Martin Palmer. "Jain Life:Beliefs and Practices."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Religion of the World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Ed. Martin E. Marty. New York: Transedition Limited and Fernleigh, 1997. 124-25. Prin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Google Imag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6 Oct. 2010. &lt;http://www.google.ca/imghp?hl=en&amp;tab=wi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inism - Wikipedia, the Free Encyclop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6 Oct. 2010. &lt;http://en.wikipedia.org/wiki/Jainism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inis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0 Oct. 2010. &lt;http://www.pujas.com/Jainism-History.html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inis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6 Oct. 2010. &lt;http://www.jainworld.com/jainbooks/Books/Jainism.htm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imeline of Jainism - Religion Fact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19 Oct. 2010. &lt;http://www.religionfacts.com/jainism/timeline.htm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7380360" y="765000"/>
            <a:ext cx="1584360" cy="187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ief 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773360"/>
            <a:ext cx="734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5th century BCE - Life of Mahavira, last Tirthankar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c. 4th-5th century CE - Umasvati codifies Jain texts in the Tattvartha Sutra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5th century - Schism occurs, forming the Svetambara and Digambara sect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9th-11th century - Digambara Jainism is frequently supported by south Indian royalty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12th century - Hemacandra, a Svetambara monk, is tutor to the rulers Siddharaja and his nephew Kumarapala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17th century - The iconoclastic Sthanakvasis sect emerg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18th-19th century - Decline of image-worshipping ascetic communit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igin and Distrib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4043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nstantia"/>
              </a:rPr>
              <a:t>3rd century BCE - A Jain community forms in the trading center of Mathura.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nstantia"/>
              </a:rPr>
              <a:t>21st century Revival of asceticism and development of mystical sects. Many Jains emigrate to East Africa, the United Kingdom and North America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305080" cy="2043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64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Similarities with Buddh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olerant other relig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Kar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In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round the sam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Same backgound story for founder or proph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Social eq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Nirv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Libe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Non-violv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www.youtube.com/watch?v=cASZK6Qgp3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Three Jewels of Jai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aim of Jain life is to achieve liberation of the sou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done by following the Jain ethical code, or to put it simply, living rightly by following the three jewels of Jain ethic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three parts to this: right faith, right knowledge and right conduct. The first two are very closely connec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C:\Kairu's stuff\School\Grade 11\World History AP\TriratnaSymbol.jpg"/>
          <p:cNvPicPr/>
          <p:nvPr/>
        </p:nvPicPr>
        <p:blipFill>
          <a:blip r:embed="rId1"/>
          <a:stretch/>
        </p:blipFill>
        <p:spPr>
          <a:xfrm>
            <a:off x="6588000" y="765000"/>
            <a:ext cx="22640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Right faith - Samyak darsha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seeing things properl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You can't achieve this unless you are determined to find the truth, and distinguish it from untruth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Right knowledge - Samyak jna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ccurate and sufficient knowledge of the real univer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roper knowledge of the Jain scriptur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ure soul; a soul that is free from attachment and desi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naturally free themselves from attachment and desi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Right conduct - Samyak charitra</a:t>
            </a: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Avoid doing harm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o living things and freeing yourself from attachment and other impure attitudes and thought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otivated and able to achieve right conduc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e Five Principles (Vows)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n-violence (Ahims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mplete avoidance of har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 living beings are eq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uthfulness (Saty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o always speak the truth in a harmless man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n-stealing (Astey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is also includes avoidance of greed and exploi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hastity (Brahmachary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onogamy and faithfulness are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tachment from material things (Aparigrah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o detach from people, places, and material thing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Holida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havira Jayan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r 2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birth anniversary of Lord Mahavira, the 24th Tirthankar and the "founder" of modern Jainis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aryusha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Sep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most important Jain festival, it consists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eight (Swetambara) or ten (Digambara) days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intensive fasting and repentance. A time of refle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w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ov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iwali, the festival of lights, is the most popular of all the festivals from South Asia. It is an occasion for celebrations by Hindus as well as Jains and Sikh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Kairu's stuff\School\Grade 11\World History AP\diwalicopy.jpg"/>
          <p:cNvPicPr/>
          <p:nvPr/>
        </p:nvPicPr>
        <p:blipFill>
          <a:blip r:embed="rId1"/>
          <a:stretch/>
        </p:blipFill>
        <p:spPr>
          <a:xfrm>
            <a:off x="6516720" y="2997360"/>
            <a:ext cx="22366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 Foun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634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nstantia"/>
              </a:rPr>
              <a:t>The truth has been revealed at different times by a tirthankar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nstantia"/>
              </a:rPr>
              <a:t>Tirthankaras accomplished the highest spiritual goal of existence and then teach others how to achieve it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nstantia"/>
              </a:rPr>
              <a:t>In what Jains call the "present age" there have been 24 tirthankaras - although there is little evidence for the existence of most of thes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Kairu's stuff\School\Grade 11\World History AP\24hrim.jpg"/>
          <p:cNvPicPr/>
          <p:nvPr/>
        </p:nvPicPr>
        <p:blipFill>
          <a:blip r:embed="rId1"/>
          <a:stretch/>
        </p:blipFill>
        <p:spPr>
          <a:xfrm>
            <a:off x="6588000" y="907920"/>
            <a:ext cx="2197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9:36:36Z</dcterms:created>
  <dc:creator>Profile</dc:creator>
  <dc:description/>
  <dc:language>en-US</dc:language>
  <cp:lastModifiedBy>Kairu Wang</cp:lastModifiedBy>
  <dcterms:modified xsi:type="dcterms:W3CDTF">2010-10-27T09:12:42Z</dcterms:modified>
  <cp:revision>21</cp:revision>
  <dc:subject/>
  <dc:title>Jainism</dc:title>
</cp:coreProperties>
</file>